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D50E-BD41-4203-8BBF-3C524B08D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6D10-3DA8-4C7B-B2B0-9A1D94EA5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1FB9-8BFC-4FA5-8A62-271104E08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2342-83D0-46A9-BB81-0DEDBC48A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76FAF-3886-4E9F-9474-F03439145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71D7D-3FB6-4B75-BBAC-D509C87B3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B7831-4555-4588-BC89-526AD59B9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E9B1F-481F-4E1F-9727-600A6ABA6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E1FCB-3304-4E38-AD76-51BC0D356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79821-15ED-4A8C-A8BB-5562577FF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64CED-719C-4F45-BC7D-CAA965C9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28A6-DE79-44E5-9F4F-4A8833F05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D4419-3ABD-4280-BF22-C80F878D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C2CEE-C992-4422-9B92-E5013499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3D0C6-49A4-4F2D-B8C9-574B8ECEA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7D2FC-C660-4DF4-8C52-36241E687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96A8E-05AA-4EAB-8BA5-32CE2BF72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BEDE-5608-4315-9C97-F6BF540A9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23BE-56D5-414C-BF3D-F88344E44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8C5B-A909-4FC0-A30A-6C1F002A3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C136-A578-4D93-ABE3-C42496792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0F7A-9DEC-449A-B820-64C7F789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7AD1-2EE6-442D-8D60-16230203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5D3C-CB09-446F-B8DA-F153FC93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41F9C-8B5F-4DDC-ACE1-40D1F8996C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7A7CA-63A8-4283-B8BC-8EAD2DA117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Freshmen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t. 10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gend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mework st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ion questions, writing assig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O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The Most Dangerous Gam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837720" y="3200400"/>
            <a:ext cx="6782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tudy of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b7"/>
                </a:solidFill>
                <a:latin typeface="Arial Black"/>
              </a:rPr>
              <a:t>Conflict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riefly summarize the following conflicts from the story. Use examples from the tex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 vs. Sel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 vs. N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 vs. M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 vs. Soci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Setting: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w a map of Ship Trap Island. Mark on it the course that Rainsford uses while fleeing Zaroff. Include: Where he came ashore, The Chateau, The Swamp, The Traps, and The Clif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haracters: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oose a quote that defines each of the main Characters: Rainsford, Zaroff, and Iv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me: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theme of Conell’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Most dangerous Gam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5:28:37Z</dcterms:created>
  <dc:creator>Kent School District 415</dc:creator>
  <dc:description/>
  <dc:language>en-US</dc:language>
  <cp:lastModifiedBy>VMS</cp:lastModifiedBy>
  <dcterms:modified xsi:type="dcterms:W3CDTF">2009-09-09T20:43:25Z</dcterms:modified>
  <cp:revision>3</cp:revision>
  <dc:subject/>
  <dc:title>The Most Dangerous Game</dc:title>
</cp:coreProperties>
</file>